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5016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722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8284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25016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722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828800" y="1400040"/>
            <a:ext cx="73152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5016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722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4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25016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722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828800" y="1400040"/>
            <a:ext cx="73152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tuff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1295280" y="1752480"/>
            <a:ext cx="7848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4cc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304920" y="22860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any LOG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company.com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4335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2193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2954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3714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475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Oval 13"/>
          <p:cNvSpPr/>
          <p:nvPr/>
        </p:nvSpPr>
        <p:spPr>
          <a:xfrm>
            <a:off x="5237280" y="6159600"/>
            <a:ext cx="6480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599760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Oval 15"/>
          <p:cNvSpPr/>
          <p:nvPr/>
        </p:nvSpPr>
        <p:spPr>
          <a:xfrm>
            <a:off x="67579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Oval 16"/>
          <p:cNvSpPr/>
          <p:nvPr/>
        </p:nvSpPr>
        <p:spPr>
          <a:xfrm>
            <a:off x="75182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82803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stuff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0" y="6356520"/>
            <a:ext cx="9144000" cy="457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4cc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4365360"/>
            <a:ext cx="72360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183883"/>
                </a:solidFill>
                <a:latin typeface="Verdana"/>
              </a:rPr>
              <a:t>O podzielności 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79960" y="1484280"/>
            <a:ext cx="435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Przykł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Wyznacz NWD(1541,529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1979640" y="2708280"/>
                <a:ext cx="403236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541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529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29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8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8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1479600" y="5734080"/>
            <a:ext cx="36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NWD(1541,529) = 23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60360" y="1628640"/>
            <a:ext cx="672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Zadanie 1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Wyznacz wszystkie dzielniki liczby 42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13"/>
          <p:cNvGrpSpPr/>
          <p:nvPr/>
        </p:nvGrpSpPr>
        <p:grpSpPr>
          <a:xfrm>
            <a:off x="1404720" y="3068640"/>
            <a:ext cx="6490080" cy="2653560"/>
            <a:chOff x="1404720" y="3068640"/>
            <a:chExt cx="6490080" cy="2653560"/>
          </a:xfrm>
        </p:grpSpPr>
        <p:sp>
          <p:nvSpPr>
            <p:cNvPr id="137" name="Text Box 12"/>
            <p:cNvSpPr/>
            <p:nvPr/>
          </p:nvSpPr>
          <p:spPr>
            <a:xfrm>
              <a:off x="1404720" y="3068640"/>
              <a:ext cx="64900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Rozłóżmy liczbę 420 na czynniki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Wszystkie dzielniki otrzymamy przez 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„kombinacje” liczb i ich iloczynów 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z rozkładu </a:t>
              </a:r>
              <a:r>
                <a:rPr b="1" lang="pl-PL" sz="2800" spc="-1" strike="noStrike">
                  <a:solidFill>
                    <a:srgbClr val="183883"/>
                  </a:solidFill>
                  <a:latin typeface="Wingdings"/>
                  <a:ea typeface="Wingdings"/>
                </a:rPr>
                <a:t>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 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Object 11"/>
                <p:cNvSpPr txBox="1"/>
                <p:nvPr/>
              </p:nvSpPr>
              <p:spPr>
                <a:xfrm>
                  <a:off x="2627280" y="3692520"/>
                  <a:ext cx="4105440" cy="12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420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3</m:t>
                          </m:r>
                          <m:r>
                            <m:t xml:space="preserve">⋅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r>
                            <m:t xml:space="preserve">7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1249920" y="1628640"/>
            <a:ext cx="7896600" cy="947160"/>
            <a:chOff x="1249920" y="1628640"/>
            <a:chExt cx="7896600" cy="947160"/>
          </a:xfrm>
        </p:grpSpPr>
        <p:sp>
          <p:nvSpPr>
            <p:cNvPr id="141" name="Text Box 6"/>
            <p:cNvSpPr/>
            <p:nvPr/>
          </p:nvSpPr>
          <p:spPr>
            <a:xfrm>
              <a:off x="1249920" y="1628640"/>
              <a:ext cx="7896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Zadanie 2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Wykaż, że liczba             jest podzielna przez 8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Object 7"/>
                <p:cNvSpPr txBox="1"/>
                <p:nvPr/>
              </p:nvSpPr>
              <p:spPr>
                <a:xfrm>
                  <a:off x="4133880" y="1925640"/>
                  <a:ext cx="129528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1476360" y="2708280"/>
                <a:ext cx="6480360" cy="36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264320" y="1628640"/>
            <a:ext cx="763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Zadanie 3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Udowodnij, że różnica kwadratów dwóch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kolejnych liczb nieparzystych jest podzielna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przez 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2340000" y="3357720"/>
                <a:ext cx="5699160" cy="28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1249920" y="1628640"/>
            <a:ext cx="7896600" cy="947160"/>
            <a:chOff x="1249920" y="1628640"/>
            <a:chExt cx="7896600" cy="947160"/>
          </a:xfrm>
        </p:grpSpPr>
        <p:sp>
          <p:nvSpPr>
            <p:cNvPr id="149" name="Text Box 6"/>
            <p:cNvSpPr/>
            <p:nvPr/>
          </p:nvSpPr>
          <p:spPr>
            <a:xfrm>
              <a:off x="1249920" y="1628640"/>
              <a:ext cx="7896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Zadanie 4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Wykaż, że liczba             jest podzielna przez 6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Object 7"/>
                <p:cNvSpPr txBox="1"/>
                <p:nvPr/>
              </p:nvSpPr>
              <p:spPr>
                <a:xfrm>
                  <a:off x="4103640" y="1927080"/>
                  <a:ext cx="125388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n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Group 10"/>
          <p:cNvGrpSpPr/>
          <p:nvPr/>
        </p:nvGrpSpPr>
        <p:grpSpPr>
          <a:xfrm>
            <a:off x="1258920" y="3068640"/>
            <a:ext cx="7340040" cy="2448360"/>
            <a:chOff x="1258920" y="3068640"/>
            <a:chExt cx="7340040" cy="2448360"/>
          </a:xfrm>
        </p:grpSpPr>
        <mc:AlternateContent>
          <mc:Choice xmlns:a14="http://schemas.microsoft.com/office/drawing/2010/main" Requires="a14">
            <p:sp>
              <p:nvSpPr>
                <p:cNvPr id="152" name="Object 8"/>
                <p:cNvSpPr txBox="1"/>
                <p:nvPr/>
              </p:nvSpPr>
              <p:spPr>
                <a:xfrm>
                  <a:off x="1258920" y="3068640"/>
                  <a:ext cx="691200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n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Text Box 9"/>
            <p:cNvSpPr/>
            <p:nvPr/>
          </p:nvSpPr>
          <p:spPr>
            <a:xfrm>
              <a:off x="1324080" y="4143240"/>
              <a:ext cx="7274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Wśród trzech kolejnych liczb naturalnych 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jest liczba podzielna przez 2 i przez 3,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zatem liczba jest podzielna przez 6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260000" y="1628640"/>
            <a:ext cx="7441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Zadanie 5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Pewna liczba przy dzieleniu przez 7 daje 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reszty 6. Oblicz resztę z dzielenia kwadratu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tej liczby przez 7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052720" y="3500280"/>
                <a:ext cx="6335640" cy="284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zyli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260000" y="1628640"/>
            <a:ext cx="77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Zadanie 6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Liczba a przy dzieleniu przez 4 daje reszty 3, 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zaś przy dzieleniu przez 5 reszty 2. Oblicz 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resztę z dzielenia liczby a przez 20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1258920" y="3517920"/>
            <a:ext cx="7037640" cy="2782800"/>
            <a:chOff x="1258920" y="3517920"/>
            <a:chExt cx="7037640" cy="2782800"/>
          </a:xfrm>
        </p:grpSpPr>
        <mc:AlternateContent>
          <mc:Choice xmlns:a14="http://schemas.microsoft.com/office/drawing/2010/main" Requires="a14">
            <p:sp>
              <p:nvSpPr>
                <p:cNvPr id="160" name="Object 6"/>
                <p:cNvSpPr txBox="1"/>
                <p:nvPr/>
              </p:nvSpPr>
              <p:spPr>
                <a:xfrm>
                  <a:off x="1258920" y="3517920"/>
                  <a:ext cx="2859120" cy="27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eqArr>
                            <m:e>
                              <m:d>
                                <m:dPr>
                                  <m:begChr m:val="{"/>
                                  <m:endChr m:val=""/>
                                </m:dPr>
                                <m:e>
                                  <m:r>
                                    <m:t xml:space="preserve">a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m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3</m:t>
                                  </m:r>
                                </m:e>
                                <m:e/>
                              </m:d>
                            </m:e>
                          </m:eqAr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Object 7"/>
                <p:cNvSpPr txBox="1"/>
                <p:nvPr/>
              </p:nvSpPr>
              <p:spPr>
                <a:xfrm>
                  <a:off x="4932360" y="4869000"/>
                  <a:ext cx="3168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zyli</m:t>
                          </m:r>
                          <m:r>
                            <m:t xml:space="preserve"> </m:t>
                          </m:r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Text Box 8"/>
            <p:cNvSpPr/>
            <p:nvPr/>
          </p:nvSpPr>
          <p:spPr>
            <a:xfrm>
              <a:off x="4720320" y="4221000"/>
              <a:ext cx="357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Po odjęciu stronami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264680" y="1628640"/>
            <a:ext cx="808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Zadanie 7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Wykaż, że różnica liczb trzycyfrowych, 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z których jedna jest zapisana tymi samymi 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cyframi co druga, lecz w odwrotnym porządku,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jest podzielna przez 9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468360" y="4149720"/>
                <a:ext cx="867564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b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192680" y="1628640"/>
            <a:ext cx="812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Zadanie 8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Dana jest pięciocyfrowa liczba palindromiczna.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Wykaż, że jeśli odejmiemy od tej liczby liczbę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która powstała przez zamianę cyfr jedności i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dziesiątek oraz tysięcy i setek tysięcy, to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otrzymamy liczbę podzielną przez 37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1332000" y="1770120"/>
                <a:ext cx="7667640" cy="40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cba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cab</m:t>
                            </m:r>
                          </m:e>
                        </m:ba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991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991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991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3"/>
          <p:cNvGrpSpPr/>
          <p:nvPr/>
        </p:nvGrpSpPr>
        <p:grpSpPr>
          <a:xfrm>
            <a:off x="1332000" y="1700280"/>
            <a:ext cx="7382880" cy="4010040"/>
            <a:chOff x="1332000" y="1700280"/>
            <a:chExt cx="7382880" cy="4010040"/>
          </a:xfrm>
        </p:grpSpPr>
        <p:sp>
          <p:nvSpPr>
            <p:cNvPr id="94" name="Text Box 7"/>
            <p:cNvSpPr/>
            <p:nvPr/>
          </p:nvSpPr>
          <p:spPr>
            <a:xfrm>
              <a:off x="1332000" y="17002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1423800" y="1731960"/>
              <a:ext cx="7291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Zbiory liczbowe: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Liczby naturaln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Liczby całkowit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4535280" y="335268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Object 11"/>
                <p:cNvSpPr txBox="1"/>
                <p:nvPr/>
              </p:nvSpPr>
              <p:spPr>
                <a:xfrm>
                  <a:off x="1496880" y="3460680"/>
                  <a:ext cx="32065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,2,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Object 12"/>
                <p:cNvSpPr txBox="1"/>
                <p:nvPr/>
              </p:nvSpPr>
              <p:spPr>
                <a:xfrm>
                  <a:off x="1568160" y="4973400"/>
                  <a:ext cx="5589360" cy="73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−</m:t>
                          </m:r>
                          <m:r>
                            <m:t xml:space="preserve">1,0,1,2,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7"/>
          <p:cNvGrpSpPr/>
          <p:nvPr/>
        </p:nvGrpSpPr>
        <p:grpSpPr>
          <a:xfrm>
            <a:off x="1212840" y="1628640"/>
            <a:ext cx="7934760" cy="1373760"/>
            <a:chOff x="1212840" y="1628640"/>
            <a:chExt cx="7934760" cy="1373760"/>
          </a:xfrm>
        </p:grpSpPr>
        <p:sp>
          <p:nvSpPr>
            <p:cNvPr id="171" name="Text Box 3"/>
            <p:cNvSpPr/>
            <p:nvPr/>
          </p:nvSpPr>
          <p:spPr>
            <a:xfrm>
              <a:off x="1268280" y="16686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1212840" y="1628640"/>
              <a:ext cx="79347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Zadanie 9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Uzasadnij, że liczba                    jest podzielna 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przez 10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Object 6"/>
                <p:cNvSpPr txBox="1"/>
                <p:nvPr/>
              </p:nvSpPr>
              <p:spPr>
                <a:xfrm>
                  <a:off x="4745160" y="1878120"/>
                  <a:ext cx="180000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4" name="Group 10"/>
          <p:cNvGrpSpPr/>
          <p:nvPr/>
        </p:nvGrpSpPr>
        <p:grpSpPr>
          <a:xfrm>
            <a:off x="1265760" y="3500280"/>
            <a:ext cx="7511040" cy="2268720"/>
            <a:chOff x="1265760" y="3500280"/>
            <a:chExt cx="7511040" cy="2268720"/>
          </a:xfrm>
        </p:grpSpPr>
        <p:sp>
          <p:nvSpPr>
            <p:cNvPr id="175" name="Text Box 8"/>
            <p:cNvSpPr/>
            <p:nvPr/>
          </p:nvSpPr>
          <p:spPr>
            <a:xfrm>
              <a:off x="1265760" y="35002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Spójrzmy na ostatnie cyfry kolejnych potęg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Object 9"/>
                <p:cNvSpPr txBox="1"/>
                <p:nvPr/>
              </p:nvSpPr>
              <p:spPr>
                <a:xfrm>
                  <a:off x="1403280" y="4221000"/>
                  <a:ext cx="5905440" cy="15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e>
                        <m:e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43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7"/>
          <p:cNvGrpSpPr/>
          <p:nvPr/>
        </p:nvGrpSpPr>
        <p:grpSpPr>
          <a:xfrm>
            <a:off x="1403280" y="3284640"/>
            <a:ext cx="5823000" cy="1096560"/>
            <a:chOff x="1403280" y="3284640"/>
            <a:chExt cx="5823000" cy="1096560"/>
          </a:xfrm>
        </p:grpSpPr>
        <mc:AlternateContent>
          <mc:Choice xmlns:a14="http://schemas.microsoft.com/office/drawing/2010/main" Requires="a14">
            <p:sp>
              <p:nvSpPr>
                <p:cNvPr id="178" name="Object 9"/>
                <p:cNvSpPr txBox="1"/>
                <p:nvPr/>
              </p:nvSpPr>
              <p:spPr>
                <a:xfrm>
                  <a:off x="1403280" y="3284640"/>
                  <a:ext cx="582300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3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Text Box 10"/>
            <p:cNvSpPr/>
            <p:nvPr/>
          </p:nvSpPr>
          <p:spPr>
            <a:xfrm>
              <a:off x="1406520" y="3860640"/>
              <a:ext cx="562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Ostatnia cyfra jest stale równa 1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16"/>
          <p:cNvGrpSpPr/>
          <p:nvPr/>
        </p:nvGrpSpPr>
        <p:grpSpPr>
          <a:xfrm>
            <a:off x="1333440" y="1773360"/>
            <a:ext cx="7026480" cy="1373760"/>
            <a:chOff x="1333440" y="1773360"/>
            <a:chExt cx="7026480" cy="1373760"/>
          </a:xfrm>
        </p:grpSpPr>
        <p:sp>
          <p:nvSpPr>
            <p:cNvPr id="181" name="Text Box 8"/>
            <p:cNvSpPr/>
            <p:nvPr/>
          </p:nvSpPr>
          <p:spPr>
            <a:xfrm>
              <a:off x="1333440" y="1773360"/>
              <a:ext cx="7026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Ostatnia cyfra „powtarza się” co 4, czyli 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ostatnia cyfra      jest taka sama jak 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czyli 1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Object 12"/>
                <p:cNvSpPr txBox="1"/>
                <p:nvPr/>
              </p:nvSpPr>
              <p:spPr>
                <a:xfrm>
                  <a:off x="3780000" y="2133720"/>
                  <a:ext cx="57600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3" name="Object 13"/>
                <p:cNvSpPr txBox="1"/>
                <p:nvPr/>
              </p:nvSpPr>
              <p:spPr>
                <a:xfrm>
                  <a:off x="7451640" y="2133720"/>
                  <a:ext cx="43992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Group 18"/>
          <p:cNvGrpSpPr/>
          <p:nvPr/>
        </p:nvGrpSpPr>
        <p:grpSpPr>
          <a:xfrm>
            <a:off x="1335600" y="4653000"/>
            <a:ext cx="7052760" cy="1729800"/>
            <a:chOff x="1335600" y="4653000"/>
            <a:chExt cx="7052760" cy="1729800"/>
          </a:xfrm>
        </p:grpSpPr>
        <p:sp>
          <p:nvSpPr>
            <p:cNvPr id="185" name="Text Box 11"/>
            <p:cNvSpPr/>
            <p:nvPr/>
          </p:nvSpPr>
          <p:spPr>
            <a:xfrm>
              <a:off x="1406160" y="4797360"/>
              <a:ext cx="122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Zatem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Object 14"/>
                <p:cNvSpPr txBox="1"/>
                <p:nvPr/>
              </p:nvSpPr>
              <p:spPr>
                <a:xfrm>
                  <a:off x="2771640" y="4653000"/>
                  <a:ext cx="561672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Text Box 15"/>
            <p:cNvSpPr/>
            <p:nvPr/>
          </p:nvSpPr>
          <p:spPr>
            <a:xfrm>
              <a:off x="1335600" y="5435640"/>
              <a:ext cx="6906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Ostatnia cyfrą różnicy jest 0 co oznacza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że liczba jest podzielna przez 10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260720" y="1628640"/>
            <a:ext cx="74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Zadanie 10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Uzasadnij, że liczba jest podzielna przez 9, 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jeśli suma jej cyfr jest podzielna przez 9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183600" y="3068640"/>
            <a:ext cx="8952840" cy="3318480"/>
            <a:chOff x="183600" y="3068640"/>
            <a:chExt cx="8952840" cy="3318480"/>
          </a:xfrm>
        </p:grpSpPr>
        <mc:AlternateContent>
          <mc:Choice xmlns:a14="http://schemas.microsoft.com/office/drawing/2010/main" Requires="a14">
            <p:sp>
              <p:nvSpPr>
                <p:cNvPr id="191" name="Object 6"/>
                <p:cNvSpPr txBox="1"/>
                <p:nvPr/>
              </p:nvSpPr>
              <p:spPr>
                <a:xfrm>
                  <a:off x="249120" y="3068640"/>
                  <a:ext cx="882036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bar>
                            <m:barPr>
                              <m:pos m:val="top"/>
                            </m:bar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+</m:t>
                          </m:r>
                        </m:e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Text Box 7"/>
            <p:cNvSpPr/>
            <p:nvPr/>
          </p:nvSpPr>
          <p:spPr>
            <a:xfrm>
              <a:off x="183600" y="5013360"/>
              <a:ext cx="8952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Mamy sumę dwóch składników, z których jeden jest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podzielny przez 9. Aby liczba była podzielna prze 9 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drugi składnik też musi być podzielny przez 9.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134520" y="306864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83883"/>
                </a:solidFill>
                <a:latin typeface="Arial"/>
              </a:rPr>
              <a:t>Dziękuję 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8"/>
          <p:cNvGrpSpPr/>
          <p:nvPr/>
        </p:nvGrpSpPr>
        <p:grpSpPr>
          <a:xfrm>
            <a:off x="1332000" y="1700280"/>
            <a:ext cx="7369200" cy="1914480"/>
            <a:chOff x="1332000" y="1700280"/>
            <a:chExt cx="7369200" cy="1914480"/>
          </a:xfrm>
        </p:grpSpPr>
        <p:sp>
          <p:nvSpPr>
            <p:cNvPr id="100" name="Text Box 3"/>
            <p:cNvSpPr/>
            <p:nvPr/>
          </p:nvSpPr>
          <p:spPr>
            <a:xfrm>
              <a:off x="1332000" y="17002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4"/>
            <p:cNvSpPr/>
            <p:nvPr/>
          </p:nvSpPr>
          <p:spPr>
            <a:xfrm>
              <a:off x="1497960" y="1876320"/>
              <a:ext cx="72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Liczba a jest podzielna przez liczbę b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(różną od 0), jeśli istnieje liczba n taka, ż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5"/>
                <p:cNvSpPr txBox="1"/>
                <p:nvPr/>
              </p:nvSpPr>
              <p:spPr>
                <a:xfrm>
                  <a:off x="2071440" y="2884320"/>
                  <a:ext cx="208728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" name="Group 9"/>
          <p:cNvGrpSpPr/>
          <p:nvPr/>
        </p:nvGrpSpPr>
        <p:grpSpPr>
          <a:xfrm>
            <a:off x="1476360" y="4005360"/>
            <a:ext cx="7488360" cy="2653560"/>
            <a:chOff x="1476360" y="4005360"/>
            <a:chExt cx="7488360" cy="2653560"/>
          </a:xfrm>
        </p:grpSpPr>
        <mc:AlternateContent>
          <mc:Choice xmlns:a14="http://schemas.microsoft.com/office/drawing/2010/main" Requires="a14">
            <p:sp>
              <p:nvSpPr>
                <p:cNvPr id="104" name="Object 6"/>
                <p:cNvSpPr txBox="1"/>
                <p:nvPr/>
              </p:nvSpPr>
              <p:spPr>
                <a:xfrm>
                  <a:off x="2071800" y="5072040"/>
                  <a:ext cx="619416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⋅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r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r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5" name="Rectangle 7"/>
            <p:cNvSpPr/>
            <p:nvPr/>
          </p:nvSpPr>
          <p:spPr>
            <a:xfrm>
              <a:off x="1476360" y="4005360"/>
              <a:ext cx="7488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Dla każdych liczb całkowitych a i b istnieją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liczby całkowite n i r takie, ż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tzw. dzielenie z resztą</a:t>
              </a:r>
              <a:br>
                <a:rPr sz="2800"/>
              </a:b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81400" y="155736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Cechy podzielności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860480" y="2060640"/>
          <a:ext cx="6096240" cy="4267080"/>
        </p:xfrm>
        <a:graphic>
          <a:graphicData uri="http://schemas.openxmlformats.org/drawingml/2006/table">
            <a:tbl>
              <a:tblPr/>
              <a:tblGrid>
                <a:gridCol w="792360"/>
                <a:gridCol w="5303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32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2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83883"/>
                      </a:solidFill>
                    </a:lnL>
                    <a:lnR w="5760">
                      <a:solidFill>
                        <a:srgbClr val="183883"/>
                      </a:solidFill>
                    </a:lnR>
                    <a:lnT w="13680">
                      <a:solidFill>
                        <a:srgbClr val="183883"/>
                      </a:solidFill>
                    </a:lnT>
                    <a:lnB w="576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Ostatnia cyfra liczby 0,2,4,6,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83883"/>
                      </a:solidFill>
                    </a:lnL>
                    <a:lnR w="13680">
                      <a:solidFill>
                        <a:srgbClr val="183883"/>
                      </a:solidFill>
                    </a:lnR>
                    <a:lnT w="13680">
                      <a:solidFill>
                        <a:srgbClr val="183883"/>
                      </a:solidFill>
                    </a:lnT>
                    <a:lnB w="5760">
                      <a:solidFill>
                        <a:srgbClr val="183883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32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3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83883"/>
                      </a:solidFill>
                    </a:lnL>
                    <a:lnR w="5760">
                      <a:solidFill>
                        <a:srgbClr val="183883"/>
                      </a:solidFill>
                    </a:lnR>
                    <a:lnT w="5760">
                      <a:solidFill>
                        <a:srgbClr val="183883"/>
                      </a:solidFill>
                    </a:lnT>
                    <a:lnB w="576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Suma cyfr podzielna przez 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83883"/>
                      </a:solidFill>
                    </a:lnL>
                    <a:lnR w="13680">
                      <a:solidFill>
                        <a:srgbClr val="183883"/>
                      </a:solidFill>
                    </a:lnR>
                    <a:lnT w="5760">
                      <a:solidFill>
                        <a:srgbClr val="183883"/>
                      </a:solidFill>
                    </a:lnT>
                    <a:lnB w="5760">
                      <a:solidFill>
                        <a:srgbClr val="183883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32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4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83883"/>
                      </a:solidFill>
                    </a:lnL>
                    <a:lnR w="5760">
                      <a:solidFill>
                        <a:srgbClr val="183883"/>
                      </a:solidFill>
                    </a:lnR>
                    <a:lnT w="5760">
                      <a:solidFill>
                        <a:srgbClr val="183883"/>
                      </a:solidFill>
                    </a:lnT>
                    <a:lnB w="576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Liczba utworzona z dwóch ostatnich cyfr liczby jest podzielna przez 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83883"/>
                      </a:solidFill>
                    </a:lnL>
                    <a:lnR w="13680">
                      <a:solidFill>
                        <a:srgbClr val="183883"/>
                      </a:solidFill>
                    </a:lnR>
                    <a:lnT w="5760">
                      <a:solidFill>
                        <a:srgbClr val="183883"/>
                      </a:solidFill>
                    </a:lnT>
                    <a:lnB w="5760">
                      <a:solidFill>
                        <a:srgbClr val="183883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32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5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83883"/>
                      </a:solidFill>
                    </a:lnL>
                    <a:lnR w="5760">
                      <a:solidFill>
                        <a:srgbClr val="183883"/>
                      </a:solidFill>
                    </a:lnR>
                    <a:lnT w="5760">
                      <a:solidFill>
                        <a:srgbClr val="183883"/>
                      </a:solidFill>
                    </a:lnT>
                    <a:lnB w="576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Ostatnia cyfra liczby 0,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83883"/>
                      </a:solidFill>
                    </a:lnL>
                    <a:lnR w="13680">
                      <a:solidFill>
                        <a:srgbClr val="183883"/>
                      </a:solidFill>
                    </a:lnR>
                    <a:lnT w="5760">
                      <a:solidFill>
                        <a:srgbClr val="183883"/>
                      </a:solidFill>
                    </a:lnT>
                    <a:lnB w="5760">
                      <a:solidFill>
                        <a:srgbClr val="183883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32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6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83883"/>
                      </a:solidFill>
                    </a:lnL>
                    <a:lnR w="5760">
                      <a:solidFill>
                        <a:srgbClr val="183883"/>
                      </a:solidFill>
                    </a:lnR>
                    <a:lnT w="5760">
                      <a:solidFill>
                        <a:srgbClr val="183883"/>
                      </a:solidFill>
                    </a:lnT>
                    <a:lnB w="576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Podzielna przez 2 i przez 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83883"/>
                      </a:solidFill>
                    </a:lnL>
                    <a:lnR w="13680">
                      <a:solidFill>
                        <a:srgbClr val="183883"/>
                      </a:solidFill>
                    </a:lnR>
                    <a:lnT w="5760">
                      <a:solidFill>
                        <a:srgbClr val="183883"/>
                      </a:solidFill>
                    </a:lnT>
                    <a:lnB w="5760">
                      <a:solidFill>
                        <a:srgbClr val="183883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32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9</a:t>
                      </a: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83883"/>
                      </a:solidFill>
                    </a:lnL>
                    <a:lnR w="5760">
                      <a:solidFill>
                        <a:srgbClr val="183883"/>
                      </a:solidFill>
                    </a:lnR>
                    <a:lnT w="5760">
                      <a:solidFill>
                        <a:srgbClr val="183883"/>
                      </a:solidFill>
                    </a:lnT>
                    <a:lnB w="13680">
                      <a:solidFill>
                        <a:srgbClr val="18388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183883"/>
                          </a:solidFill>
                          <a:latin typeface="Arial"/>
                        </a:rPr>
                        <a:t>Suma cyfr podzielna przez 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83883"/>
                      </a:solidFill>
                    </a:lnL>
                    <a:lnR w="13680">
                      <a:solidFill>
                        <a:srgbClr val="183883"/>
                      </a:solidFill>
                    </a:lnR>
                    <a:lnT w="5760">
                      <a:solidFill>
                        <a:srgbClr val="183883"/>
                      </a:solidFill>
                    </a:lnT>
                    <a:lnB w="13680">
                      <a:solidFill>
                        <a:srgbClr val="18388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481400" y="1628640"/>
            <a:ext cx="7473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Każdą liczbę naturalną można przedstawić 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jednoznacznie w postaci iloczynu liczb 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pierwszych (rozkład liczby na czynniki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pierwsze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np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8"/>
              <p:cNvSpPr txBox="1"/>
              <p:nvPr/>
            </p:nvSpPr>
            <p:spPr>
              <a:xfrm>
                <a:off x="2411280" y="3933720"/>
                <a:ext cx="530244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520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29"/>
          <p:cNvSpPr/>
          <p:nvPr/>
        </p:nvSpPr>
        <p:spPr>
          <a:xfrm>
            <a:off x="1239840" y="5516640"/>
            <a:ext cx="790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83883"/>
                </a:solidFill>
                <a:latin typeface="Arial"/>
              </a:rPr>
              <a:t>Wnios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83883"/>
                </a:solidFill>
                <a:latin typeface="Arial"/>
              </a:rPr>
              <a:t>Z rozkładu można wyznaczyć dzielniki danej liczby 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7"/>
          <p:cNvGrpSpPr/>
          <p:nvPr/>
        </p:nvGrpSpPr>
        <p:grpSpPr>
          <a:xfrm>
            <a:off x="1332000" y="1628640"/>
            <a:ext cx="6692760" cy="4786560"/>
            <a:chOff x="1332000" y="1628640"/>
            <a:chExt cx="6692760" cy="4786560"/>
          </a:xfrm>
        </p:grpSpPr>
        <p:sp>
          <p:nvSpPr>
            <p:cNvPr id="114" name="Text Box 3"/>
            <p:cNvSpPr/>
            <p:nvPr/>
          </p:nvSpPr>
          <p:spPr>
            <a:xfrm>
              <a:off x="1332000" y="16686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4"/>
            <p:cNvSpPr/>
            <p:nvPr/>
          </p:nvSpPr>
          <p:spPr>
            <a:xfrm>
              <a:off x="1501200" y="1628640"/>
              <a:ext cx="652356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Algorytm rozkładu liczby na czynniki: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2520  2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1260  2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630  2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315  3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105  3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  35  5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    7  7</a:t>
              </a:r>
              <a:br>
                <a:rPr sz="2800"/>
              </a:b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    1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5"/>
            <p:cNvSpPr/>
            <p:nvPr/>
          </p:nvSpPr>
          <p:spPr>
            <a:xfrm>
              <a:off x="4305240" y="2492280"/>
              <a:ext cx="0" cy="3527640"/>
            </a:xfrm>
            <a:prstGeom prst="line">
              <a:avLst/>
            </a:prstGeom>
            <a:ln w="9360">
              <a:solidFill>
                <a:srgbClr val="1838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263240" y="1628640"/>
            <a:ext cx="792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Największy wspólny dzielnik dwóch liczb a i b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to największa liczba naturalna, która dzieli 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jednocześnie liczby a i b.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Piszemy NWD(a,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212120" y="378468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Najmniejsza wspólna wielokrotność dwóch 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liczb a i b to najmniejsza liczba naturalna, 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której dzielnikami są jednocześnie liczby a i b.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Piszemy NWW(a,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8"/>
          <p:cNvGrpSpPr/>
          <p:nvPr/>
        </p:nvGrpSpPr>
        <p:grpSpPr>
          <a:xfrm>
            <a:off x="1311120" y="1484280"/>
            <a:ext cx="6693120" cy="3817800"/>
            <a:chOff x="1311120" y="1484280"/>
            <a:chExt cx="6693120" cy="3817800"/>
          </a:xfrm>
        </p:grpSpPr>
        <p:sp>
          <p:nvSpPr>
            <p:cNvPr id="121" name="Text Box 3"/>
            <p:cNvSpPr/>
            <p:nvPr/>
          </p:nvSpPr>
          <p:spPr>
            <a:xfrm>
              <a:off x="1311120" y="16686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1477440" y="1484280"/>
              <a:ext cx="652680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</a:rPr>
                <a:t>Wyznacz NWD i NWW liczb 224 i 1890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183883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224  </a:t>
              </a:r>
              <a:r>
                <a:rPr b="1" lang="pl-PL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	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1890  </a:t>
              </a:r>
              <a:r>
                <a:rPr b="1" lang="pl-PL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2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112  2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	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945  3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56  2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	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315  3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28  2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	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105  3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14  2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	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  35  5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  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7  </a:t>
              </a:r>
              <a:r>
                <a:rPr b="1" lang="pl-PL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7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	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    7  </a:t>
              </a:r>
              <a:r>
                <a:rPr b="1" lang="pl-PL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7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	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    </a:t>
              </a:r>
              <a:r>
                <a:rPr b="1" lang="pl-PL" sz="2800" spc="-1" strike="noStrike">
                  <a:solidFill>
                    <a:srgbClr val="183883"/>
                  </a:solidFill>
                  <a:latin typeface="Arial"/>
                  <a:ea typeface="Arial"/>
                </a:rPr>
                <a:t>1                  1 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3132000" y="2133720"/>
              <a:ext cx="0" cy="3168360"/>
            </a:xfrm>
            <a:prstGeom prst="line">
              <a:avLst/>
            </a:prstGeom>
            <a:ln w="9360">
              <a:solidFill>
                <a:srgbClr val="1838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5219640" y="2133720"/>
              <a:ext cx="0" cy="3168360"/>
            </a:xfrm>
            <a:prstGeom prst="line">
              <a:avLst/>
            </a:prstGeom>
            <a:ln w="9360">
              <a:solidFill>
                <a:srgbClr val="1838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Object 7"/>
              <p:cNvSpPr txBox="1"/>
              <p:nvPr/>
            </p:nvSpPr>
            <p:spPr>
              <a:xfrm>
                <a:off x="1187280" y="5200560"/>
                <a:ext cx="765828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W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9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WW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9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1311120" y="1668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76360" y="1484280"/>
            <a:ext cx="741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Algorytm Euklidesa NWD(a,b):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1908000" y="2060640"/>
                <a:ext cx="289728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6"/>
          <p:cNvSpPr/>
          <p:nvPr/>
        </p:nvSpPr>
        <p:spPr>
          <a:xfrm>
            <a:off x="900000" y="342432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Ostatnia niezerowa 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reszta jest szukanym</a:t>
            </a:r>
            <a:br>
              <a:rPr sz="2800"/>
            </a:b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183883"/>
                </a:solidFill>
                <a:latin typeface="Arial"/>
              </a:rPr>
              <a:t>NWD (a,b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16:38Z</dcterms:created>
  <dc:creator>APP</dc:creator>
  <dc:description/>
  <dc:language>en-US</dc:language>
  <cp:lastModifiedBy>IMK</cp:lastModifiedBy>
  <dcterms:modified xsi:type="dcterms:W3CDTF">2015-07-13T10:46:23Z</dcterms:modified>
  <cp:revision>95</cp:revision>
  <dc:subject/>
  <dc:title>O podzielności …</dc:title>
</cp:coreProperties>
</file>